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6E0-7943-4E93-BF96-A8B94E18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062-02BD-40B0-B09A-7E29EF1E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FD7-E7EE-48FD-BE8A-C67386EC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D96-00D3-4B76-922E-68163917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3CF-5FC7-4BA6-BD43-F6CBF80F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C3E-9143-4FAC-A7FC-E4083108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744-E529-4EEE-8E9B-25CF0D05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667-9C95-4C4B-9968-CDAB9175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1A5-C33B-4A86-B023-7BCDF517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17D-797A-47FC-8521-B46D2AA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4C9-EDDB-46D3-BB80-FAA5C4E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C85-7FBB-4B4E-803B-CCFB9BB0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ll Hom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6FA3-4163-41C1-86AD-73600149E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5333760" y="64008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56840" y="64008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rId2" action="ppaction://hlinksldjump"/>
          </p:cNvPr>
          <p:cNvSpPr/>
          <p:nvPr/>
        </p:nvSpPr>
        <p:spPr>
          <a:xfrm>
            <a:off x="32004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95760" y="406440"/>
            <a:ext cx="87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3160" y="406440"/>
            <a:ext cx="888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94360" y="1841400"/>
            <a:ext cx="863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07160" y="342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08840" y="4762440"/>
            <a:ext cx="863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00680" y="5905440"/>
            <a:ext cx="888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4673520"/>
            <a:ext cx="87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1892160"/>
            <a:ext cx="888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080" y="450720"/>
            <a:ext cx="8972640" cy="5981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87920" y="1739880"/>
            <a:ext cx="271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1040" y="2413080"/>
            <a:ext cx="1587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40280" y="5308560"/>
            <a:ext cx="20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863640" y="2400480"/>
            <a:ext cx="149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762120" y="48006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7621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on the labels to learn more about each component of a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60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95760" y="419040"/>
            <a:ext cx="87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3160" y="419040"/>
            <a:ext cx="888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94360" y="1854360"/>
            <a:ext cx="86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07160" y="3441600"/>
            <a:ext cx="8636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08840" y="4775040"/>
            <a:ext cx="863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00680" y="5918040"/>
            <a:ext cx="888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3120" y="4686480"/>
            <a:ext cx="87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1905120"/>
            <a:ext cx="88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360" y="444600"/>
            <a:ext cx="8991720" cy="599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87920" y="1752480"/>
            <a:ext cx="271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51040" y="2425680"/>
            <a:ext cx="1587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40280" y="5321160"/>
            <a:ext cx="20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317520"/>
            <a:ext cx="259056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6257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57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ll Hom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6257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472C-7823-4E05-BBEC-C68F10B5F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333760" y="64134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840" y="64134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3200400" y="6337440"/>
            <a:ext cx="2666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4" action="ppaction://hlinksldjump"/>
          </p:cNvPr>
          <p:cNvSpPr/>
          <p:nvPr/>
        </p:nvSpPr>
        <p:spPr>
          <a:xfrm>
            <a:off x="3809880" y="626112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83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86200" y="320040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609480"/>
            <a:ext cx="6172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picture below to see a video clip relating to chromosomes and the genetic information that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609480"/>
            <a:ext cx="6172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picture below to see a video clip relating to chromosomes and the genetic information that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3200400"/>
            <a:ext cx="43434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003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609480"/>
            <a:ext cx="7315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ytoplasm is composed of water, minerals, vitamins, salts, a variety of chemicals, as well as different organelles, and it is a critical part of the structure of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links below to view two short video clips about the cytoplasm. Then write a concise explanation of the role that cytoplasm plays in the processes that occur within a cell. Next, explain how a specific type of organelle, t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s within the cell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952880" y="3657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0528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elles: The Endoplasmic Ret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2905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560" y="2304000"/>
            <a:ext cx="907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Chromosomes are rod-shaped structures found inside every cell of the body which contain genes, the information that determines all of an individual's characteristics. Normal human cells contain 46 chromosom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1800" y="6094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t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1800" y="1157400"/>
            <a:ext cx="7315200" cy="34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de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ducing the Cell. Rainbow Educational Media Med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. http://www.unitedstreaming.co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ages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llular structures; cytoplasm, membrane, nucleus, and chromosomes. By Pau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qua.2004. Discovery Education. 01 March. 2004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unitedstream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ll with cytoplasm highlighted. By Paul Fuqua.2004. Discovery Edu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1 March. 2004  http://www.unitedstreaming.com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omosomes. By Paul Fuqua.2003. Discovery Education. 01 March. 2004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unitedstream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5638680"/>
            <a:ext cx="707760" cy="457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27280" y="56260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k Marchessaul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12:07:57Z</dcterms:created>
  <dc:creator>Discovery Education</dc:creator>
  <dc:description/>
  <dc:language>en-US</dc:language>
  <cp:lastModifiedBy>DCI</cp:lastModifiedBy>
  <dcterms:modified xsi:type="dcterms:W3CDTF">2005-07-14T19:36:13Z</dcterms:modified>
  <cp:revision>18</cp:revision>
  <dc:subject/>
  <dc:title>Slide 1</dc:title>
</cp:coreProperties>
</file>